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0BC-3B4E-4245-8E8D-BF1335AE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5075-5086-4255-BE27-915FEA80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E21-E40D-4F76-A53D-B8B5AE7B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5A9-6747-4A92-8975-132F9A5E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95C-0D79-4DA2-BF0A-702673FE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C3A-947D-4EBC-90A0-D10F7874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2CA-0991-47FA-BD41-30B6CAE8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B68-7443-4D01-AB5B-9B587282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90A-F6C0-467E-8074-9B714384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86B-304B-4D2B-89A9-92439FE3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861-1F55-4F8F-A60F-F21180DD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A3E-A3E2-4B78-A93F-FA876AC4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88E9-CE0A-4568-B6D4-0C621955AED2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000000"/>
                </a:solidFill>
                <a:latin typeface="Calibri"/>
              </a:rPr>
              <a:t>Farming In The U.K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in types of farming that you would find in the UK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able, dairy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ll farm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farms are actually mixing some or all of these in an attempt to make more mone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farming in Britain tends to be intensive although some of the hill farms of Wales and Scotland could be described as extens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of them are commerc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bbc.co.uk/scotland/learning/bitesize/standard/geography/images/g29.gif"/>
          <p:cNvPicPr/>
          <p:nvPr/>
        </p:nvPicPr>
        <p:blipFill>
          <a:blip r:embed="rId1"/>
          <a:stretch/>
        </p:blipFill>
        <p:spPr>
          <a:xfrm>
            <a:off x="1488960" y="1184400"/>
            <a:ext cx="59356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arket Gard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Market gardening is not shown on the map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This is because this type of farming can be done anywher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s is the growing of vegetables and fruits, usually in huge greenhous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Often the biggest requirement of market gardening is the transport routes needed to take the products to shops and supermarkets for sal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Often products have to be sold within 24 hours of being produce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li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able (e.g. East Angl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m summers, cold frosty winters. Average temperatures of 18°C or more. Low rainfall, falling during the growing season mainl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tile boulder clays, which are easy to ploug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ly flat, so it easy for machinery to be used on 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rying (e.g. Dev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m summers and mild winters mean that pasture is available all year long. High rainfall also encourages fast grass growt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tile enough for good pasture growth, but not for arable cro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tly sloping, the green rolling hills of the UK. Cattle can not cope with land that is too ste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394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li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ll Farming (sheep) (e.g. Wa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l summers, cold winters and plenty of rainfall all contribute to these areas being unsuitable for arable farming but good for grass growt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, poor soils that can be easily eroded and would not be good enough for other forms of farm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lly, steep land that would not be suitable for machinery or cattle. Sheep can cope with the slopes thoug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Gardening (e.g. East Angl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and water is usually controlled carefully by being in huge greenhous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is brought in to provide the best nutrients for the crops. Fertilisers are used extensivel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greenhouses themselves need flat land on which to be buil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uman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ommon Agricultural Policy and other regulations have encouraged arable farming more than dairying or hill sheep farming, and this has led to many farms becoming mixed farm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th dairy farms and market gardens require excellent transport links to their markets as they are producing goods that will quickly go off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able farming and market gardening require large capital inputs, whilst sheep farming and dairying require much le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wever arable farms and market gardens tend to be the more profitable als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6:27:22Z</dcterms:created>
  <dc:creator>Dell_02</dc:creator>
  <dc:description/>
  <dc:language>en-US</dc:language>
  <cp:lastModifiedBy>Dell_02</cp:lastModifiedBy>
  <dcterms:modified xsi:type="dcterms:W3CDTF">2011-01-27T16:42:49Z</dcterms:modified>
  <cp:revision>2</cp:revision>
  <dc:subject/>
  <dc:title>Farming In The U.K.</dc:title>
</cp:coreProperties>
</file>